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158-5921-4700-A56F-0D39214A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405-391D-4A91-A28C-B1828557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1B3-D42A-4216-8880-A4A649C5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871-972D-44ED-AE7C-C260DCBE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156-B758-4137-A305-57A6455D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1F5-F3CB-4A74-9B95-84AE31D7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6DF-77F5-4FDE-9C5B-F8B7EC38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579-8CBC-4DD3-AB15-127606E3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1615-12D8-4BAD-9688-E95D6A8B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641-8C56-4F19-93FE-13CF7F14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F60-3A49-43F8-ACC8-DBBA1F51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C3C-9214-43D1-BA73-E344F48F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058F-BA0A-414F-8EF0-E8A752729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Questions and Answer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Quarter 5, Lesson 5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 was the nature of the contention between Judah and the other tribes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o led in a rebellion against the rule of David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David first called upon _______________ to gather the men of Judah to him within three days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Knowing that something needed to be done quickly, David next called ___________ to go after Sheba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he troops came upon Amasa at _________________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9907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The other tribes accused Judah of stealing the 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21337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heba, tribe of Benja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2743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4038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bis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47242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The great stone of Gibe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lso present on that occasion was _________ who had a plan to kill Amasa.   Why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How was his plot carried out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 role did the wise woman at Abel play in the death of Sheba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en the kingdom was completely restored, who was made the chief captain over the army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e have now learned of ______ rebellions against David, one led by _________ and the other by _________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Jo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0666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No reason given, but it must have been for personal rev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05740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He approached Amasa with a dagger in his hand, pretended to greet him, but stabbed him inst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42900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s the army started to tear down the walls, she asked Joab why.  She gave him Sheba’s head over the 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876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Joab, who had been David’s chief captain ear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5486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5791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bsa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6095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h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Name the three men who were killed by Joab, contrary to David’s wishes.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 method did he use in each case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 reason did God give David for the severe famine that had come upon the land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 request was made by the Gibeonites and granted by David?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9144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bner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bsalom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A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1752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He stabbed all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04812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Because Saul killed Gibeonites who had a covenant with Israel to live in the 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4956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Give the 7 sons of Saul to them to be han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04:37:54Z</dcterms:created>
  <dc:creator>Frank D Vines</dc:creator>
  <dc:description/>
  <dc:language>en-US</dc:language>
  <cp:lastModifiedBy>Frank D Vines</cp:lastModifiedBy>
  <dcterms:modified xsi:type="dcterms:W3CDTF">2008-03-05T18:21:40Z</dcterms:modified>
  <cp:revision>7</cp:revision>
  <dc:subject/>
  <dc:title>Slide 1</dc:title>
</cp:coreProperties>
</file>